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6CE2-9EC1-4E61-9B08-0015E50D6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D257-0E1C-4775-82F5-585AF8A6D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9A42-9354-4878-BD85-9874E58A1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124B-C59F-4B9E-BE23-72F576C39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E64E9-7A64-40F1-8D17-D83146A9D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12ED6-A360-495A-B698-32633EE07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E9248-5337-4C2B-AACD-F15881709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DE748-5A48-4D63-9A0C-E6D2F41AF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8F68A-B0AF-4080-9BED-103445E0A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1EE21-6EB3-4959-9BF5-B7DC8EE48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4F86E-58E4-4EEA-B1FF-3522668F9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F923-DBCE-4D45-B70A-E4D1D14DE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7A588-D0EB-48BD-A553-6646FC17A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0A67B-4693-4D65-A44D-D8461A06E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4E7D0-1163-4B9E-85FC-5F2041E7B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6EF53-F1F1-495A-A5C7-3E8E72895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82297-FC36-4EB9-9392-5DDDD9D51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387A0-1C4D-482B-A1DF-6C1F6FB9E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21235-0318-400C-9B57-B2BA11CC0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265CE-C83D-49E8-AA25-7400C7ABA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4F150-B036-4FCF-99F8-3F096E903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5F1D9-B4A6-459E-9330-5610261D9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7BE5-B7DA-455E-B8F4-89C1E3B27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E8995-5330-4CEA-A86F-D1B735301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91A0C-BD48-4D54-A730-A13649C60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6B54E-01FF-45C9-9DD9-7BFE6CA0E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92597-FE33-460B-BB83-6548AF9E5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2B01E-49BE-4891-92C8-4C5B301A0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E7817-8078-4232-9767-229A051EE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3F4A2-D42C-4F99-8068-005D65537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CB67C-A896-4FF4-8994-41D43E31B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FEFAA-6E1F-49FB-A755-911AF04E3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2A3EE-B460-4555-9CF3-D96934FF4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C5BB-363E-44F2-8E90-261D2E8E1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ED035-53F5-482D-A8DC-BE61B2BDD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02A6B-8EDB-4D6E-9C3A-D858BA330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C99F6-6D5A-49DC-8AF5-393320078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6EDE5B-A164-42B9-9D75-59307E496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9B889-7332-4F0B-8B9D-570530ACF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EF662-2DFE-4874-AEF2-0F797DEA0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F1D5E-CDE1-47CC-8B93-AD8771938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09EF2-1B9A-49D6-99E6-5BB0ED12F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C6177-CB9D-4652-9EB0-034E978C8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D244F9-7E1C-40F9-BD52-B0656E030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D412-1CEA-4753-ABCC-3D9002C43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791855-61C1-4FDE-81B8-7E8E7DDB4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24ECC0-8F9D-499C-8F10-3650E9FDA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D8604E-577F-4A9E-B641-EA98C7828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4AC28F-5F84-436B-B531-4FF0481AB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9970EF-609F-489E-912A-4210FBCE9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5B9AB0-33AA-47B3-9CDD-397120F88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E5281B-E106-45C7-9176-E169DCE4C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E47E66-80DF-4F38-AE9E-740402D00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DE6B30-3B2E-4A33-9E8A-D65BC4AC0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4B8C86-AF3D-4AA1-95C9-7F0CE66E0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BA5E-5395-4752-BD3B-1191267CA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9C9A07-DE65-481C-A762-586A07AF8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D9DB5E-6E3F-420F-9B12-EE8DAE77F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07D952-67CB-4F59-8DAC-9D3C646A3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6F63ED-08BE-4F8B-9188-11159F1D9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19C3F4-D3BE-4FF1-B537-2A6A2E838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B9253F-11C5-4F0C-9DB3-9ED20C08E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234926-55A9-45B8-8996-F6229AEC6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077B92-2D0D-4667-85E9-6787E10BD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22C688-C958-4543-9135-922B312C2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173563-72B8-4A69-A738-3C2F39A7F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286D-766D-448D-974F-86246BA43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560FAC-9629-487B-978C-D6B817D34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FC1FF6-7364-4AFC-954E-535EFC413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D7B9FA-3C70-49EA-A270-24E93E79A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3198C0-AEF1-457C-BAF2-6D424E84A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4F9BCE-B6A7-4725-B777-C88FA251A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5F4DD4-C8AB-43C1-9974-F04688E0D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CA17C9-4925-4EA3-AF63-17F9AA47B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7B00AD-78CA-40C2-A65B-248EFABB8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86B6CC-5266-4CF2-8133-1DA3CC682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2C19E5-CA80-4EAB-8042-454B8E388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BA4F-AA66-4D2E-822F-0AD9D84E9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7B2ED3-9BD5-4999-A66B-3F35574C0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560353-5BB1-425F-969E-AAB5D0216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51C944-1851-40E2-AACE-C9076288B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13DAC1-B40A-4537-8EBF-A9909B5FF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051088-46A1-4152-B546-CD670F0DA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CF2F-52B4-4477-8F3A-A5760D27D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5B0E3-D7BF-4323-AA1A-8A500DEAF1B8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0F489-D6D0-43DD-9BCD-F161087D9ED3}" type="slidenum">
              <a:rPr b="0" lang="en-U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74D3C-D1FF-4458-B4DA-05EADED20AB2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6DF71-DCD1-4BE4-98E1-BD518621D5FD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8D0F5-9A5E-4873-B7DF-CB3F5DB84836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21663-1A20-4B03-8D97-C52450185DE3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0AC38-04F2-47B8-8826-BF84B77F3F8E}" type="slidenum"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Subtitle 2" descr=""/>
          <p:cNvPicPr/>
          <p:nvPr/>
        </p:nvPicPr>
        <p:blipFill>
          <a:blip r:embed="rId1"/>
          <a:stretch/>
        </p:blipFill>
        <p:spPr>
          <a:xfrm>
            <a:off x="1444680" y="3651120"/>
            <a:ext cx="6413400" cy="1841760"/>
          </a:xfrm>
          <a:prstGeom prst="rect">
            <a:avLst/>
          </a:prstGeom>
          <a:ln w="0">
            <a:noFill/>
          </a:ln>
        </p:spPr>
      </p:pic>
      <p:pic>
        <p:nvPicPr>
          <p:cNvPr id="302" name="Rectangle 3" descr=""/>
          <p:cNvPicPr/>
          <p:nvPr/>
        </p:nvPicPr>
        <p:blipFill>
          <a:blip r:embed="rId2"/>
          <a:stretch/>
        </p:blipFill>
        <p:spPr>
          <a:xfrm>
            <a:off x="1779480" y="963720"/>
            <a:ext cx="578016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-237960" y="85680"/>
            <a:ext cx="9358200" cy="154800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finition: the ratio of change in C from a change in DI, that caused the change in C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PC =      C/     DI = Slope of 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nsumption Functio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5" name="Isosceles Triangle 3"/>
          <p:cNvSpPr/>
          <p:nvPr/>
        </p:nvSpPr>
        <p:spPr>
          <a:xfrm>
            <a:off x="2438280" y="3429000"/>
            <a:ext cx="304920" cy="304920"/>
          </a:xfrm>
          <a:prstGeom prst="triangle">
            <a:avLst>
              <a:gd name="adj" fmla="val 50000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Isosceles Triangle 4"/>
          <p:cNvSpPr/>
          <p:nvPr/>
        </p:nvSpPr>
        <p:spPr>
          <a:xfrm>
            <a:off x="3429000" y="3429000"/>
            <a:ext cx="304920" cy="304920"/>
          </a:xfrm>
          <a:prstGeom prst="triangle">
            <a:avLst>
              <a:gd name="adj" fmla="val 50000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ovement along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Changes in DI cause changes in consumption – move from point to point on CF (A to B)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9" name="Straight Connector 4"/>
          <p:cNvSpPr/>
          <p:nvPr/>
        </p:nvSpPr>
        <p:spPr>
          <a:xfrm flipV="1">
            <a:off x="3124080" y="4648320"/>
            <a:ext cx="2133720" cy="761760"/>
          </a:xfrm>
          <a:prstGeom prst="line">
            <a:avLst/>
          </a:prstGeom>
          <a:ln w="255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Oval 5"/>
          <p:cNvSpPr/>
          <p:nvPr/>
        </p:nvSpPr>
        <p:spPr>
          <a:xfrm>
            <a:off x="4724280" y="4648320"/>
            <a:ext cx="228600" cy="228600"/>
          </a:xfrm>
          <a:prstGeom prst="ellipse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Oval 6"/>
          <p:cNvSpPr/>
          <p:nvPr/>
        </p:nvSpPr>
        <p:spPr>
          <a:xfrm>
            <a:off x="3352680" y="5181480"/>
            <a:ext cx="228600" cy="228600"/>
          </a:xfrm>
          <a:prstGeom prst="ellipse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Box 7"/>
          <p:cNvSpPr/>
          <p:nvPr/>
        </p:nvSpPr>
        <p:spPr>
          <a:xfrm>
            <a:off x="3048120" y="48006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Box 8"/>
          <p:cNvSpPr/>
          <p:nvPr/>
        </p:nvSpPr>
        <p:spPr>
          <a:xfrm>
            <a:off x="4419720" y="4343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1"/>
          <p:cNvSpPr/>
          <p:nvPr/>
        </p:nvSpPr>
        <p:spPr>
          <a:xfrm>
            <a:off x="2438280" y="4191120"/>
            <a:ext cx="76320" cy="213336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Straight Connector 14"/>
          <p:cNvSpPr/>
          <p:nvPr/>
        </p:nvSpPr>
        <p:spPr>
          <a:xfrm>
            <a:off x="2514600" y="6324480"/>
            <a:ext cx="2971800" cy="180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457200" y="1447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hifts of the lin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Caused by a change in C that is not because of a change in DI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3 factor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60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Expectations of future outcome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60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Value of wealth/accumulation of asset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60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Price levels/purchasing power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8" name="Straight Connector 3"/>
          <p:cNvSpPr/>
          <p:nvPr/>
        </p:nvSpPr>
        <p:spPr>
          <a:xfrm flipV="1">
            <a:off x="2819520" y="5714640"/>
            <a:ext cx="2133360" cy="685800"/>
          </a:xfrm>
          <a:prstGeom prst="line">
            <a:avLst/>
          </a:prstGeom>
          <a:ln w="255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Straight Connector 4"/>
          <p:cNvSpPr/>
          <p:nvPr/>
        </p:nvSpPr>
        <p:spPr>
          <a:xfrm flipV="1">
            <a:off x="2743200" y="5181480"/>
            <a:ext cx="1905120" cy="609840"/>
          </a:xfrm>
          <a:prstGeom prst="line">
            <a:avLst/>
          </a:prstGeom>
          <a:ln w="255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Box 8"/>
          <p:cNvSpPr/>
          <p:nvPr/>
        </p:nvSpPr>
        <p:spPr>
          <a:xfrm>
            <a:off x="4952880" y="54864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F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TextBox 9"/>
          <p:cNvSpPr/>
          <p:nvPr/>
        </p:nvSpPr>
        <p:spPr>
          <a:xfrm>
            <a:off x="4648320" y="49528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F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2" name="Straight Arrow Connector 11"/>
          <p:cNvCxnSpPr/>
          <p:nvPr/>
        </p:nvCxnSpPr>
        <p:spPr>
          <a:xfrm flipV="1">
            <a:off x="4342320" y="5333400"/>
            <a:ext cx="3960" cy="5338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323" name="Straight Connector 14"/>
          <p:cNvSpPr/>
          <p:nvPr/>
        </p:nvSpPr>
        <p:spPr>
          <a:xfrm flipH="1">
            <a:off x="2436480" y="4878360"/>
            <a:ext cx="3240" cy="182880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Straight Connector 16"/>
          <p:cNvSpPr/>
          <p:nvPr/>
        </p:nvSpPr>
        <p:spPr>
          <a:xfrm flipV="1">
            <a:off x="2438280" y="6629400"/>
            <a:ext cx="2514600" cy="7632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Title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457200" y="22860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 + I + G + (X-IM)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Reflects total expenditure at all levels of GDP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quilibrium GDP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Spending = output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456840" y="4343040"/>
            <a:ext cx="39625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entury Gothic"/>
              </a:rPr>
              <a:t>EGDP &gt; PGDP</a:t>
            </a:r>
            <a:endParaRPr b="0" lang="en-US" sz="23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49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pending too high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49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Price levels too low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entury Gothic"/>
              </a:rPr>
              <a:t>Result </a:t>
            </a:r>
            <a:endParaRPr b="0" lang="en-US" sz="23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49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Inflationary gap formed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49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Inflation increase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Straight Connector 21"/>
          <p:cNvSpPr/>
          <p:nvPr/>
        </p:nvSpPr>
        <p:spPr>
          <a:xfrm flipH="1">
            <a:off x="2741760" y="1525680"/>
            <a:ext cx="2880" cy="2438280"/>
          </a:xfrm>
          <a:prstGeom prst="line">
            <a:avLst/>
          </a:prstGeom>
          <a:ln w="9360">
            <a:solidFill>
              <a:srgbClr val="28dc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Box 22"/>
          <p:cNvSpPr/>
          <p:nvPr/>
        </p:nvSpPr>
        <p:spPr>
          <a:xfrm>
            <a:off x="2133720" y="39625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PGD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1" name="Group 26"/>
          <p:cNvGrpSpPr/>
          <p:nvPr/>
        </p:nvGrpSpPr>
        <p:grpSpPr>
          <a:xfrm>
            <a:off x="2055960" y="1274400"/>
            <a:ext cx="4725720" cy="3056760"/>
            <a:chOff x="2055960" y="1274400"/>
            <a:chExt cx="4725720" cy="3056760"/>
          </a:xfrm>
        </p:grpSpPr>
        <p:grpSp>
          <p:nvGrpSpPr>
            <p:cNvPr id="332" name="Group 19"/>
            <p:cNvGrpSpPr/>
            <p:nvPr/>
          </p:nvGrpSpPr>
          <p:grpSpPr>
            <a:xfrm>
              <a:off x="2055960" y="1274400"/>
              <a:ext cx="4725720" cy="2690280"/>
              <a:chOff x="2055960" y="1274400"/>
              <a:chExt cx="4725720" cy="2690280"/>
            </a:xfrm>
          </p:grpSpPr>
          <p:grpSp>
            <p:nvGrpSpPr>
              <p:cNvPr id="333" name="Group 10"/>
              <p:cNvGrpSpPr/>
              <p:nvPr/>
            </p:nvGrpSpPr>
            <p:grpSpPr>
              <a:xfrm>
                <a:off x="2055960" y="1449000"/>
                <a:ext cx="2667960" cy="2515680"/>
                <a:chOff x="2055960" y="1449000"/>
                <a:chExt cx="2667960" cy="2515680"/>
              </a:xfrm>
            </p:grpSpPr>
            <p:sp>
              <p:nvSpPr>
                <p:cNvPr id="334" name="Straight Connector 5"/>
                <p:cNvSpPr/>
                <p:nvPr/>
              </p:nvSpPr>
              <p:spPr>
                <a:xfrm flipH="1">
                  <a:off x="2055960" y="1449000"/>
                  <a:ext cx="1440" cy="2515680"/>
                </a:xfrm>
                <a:prstGeom prst="line">
                  <a:avLst/>
                </a:prstGeom>
                <a:ln w="25560">
                  <a:solidFill>
                    <a:srgbClr val="ff248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5" name="Straight Connector 7"/>
                <p:cNvSpPr/>
                <p:nvPr/>
              </p:nvSpPr>
              <p:spPr>
                <a:xfrm>
                  <a:off x="2057400" y="3963240"/>
                  <a:ext cx="2666520" cy="1440"/>
                </a:xfrm>
                <a:prstGeom prst="line">
                  <a:avLst/>
                </a:prstGeom>
                <a:ln w="25560">
                  <a:solidFill>
                    <a:srgbClr val="ff248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6" name="Straight Connector 12"/>
              <p:cNvSpPr/>
              <p:nvPr/>
            </p:nvSpPr>
            <p:spPr>
              <a:xfrm flipV="1">
                <a:off x="2056680" y="1274400"/>
                <a:ext cx="2514600" cy="2688120"/>
              </a:xfrm>
              <a:prstGeom prst="line">
                <a:avLst/>
              </a:prstGeom>
              <a:ln w="9360">
                <a:solidFill>
                  <a:srgbClr val="ff24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TextBox 13"/>
              <p:cNvSpPr/>
              <p:nvPr/>
            </p:nvSpPr>
            <p:spPr>
              <a:xfrm>
                <a:off x="4266720" y="1371960"/>
                <a:ext cx="68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entury Gothic"/>
                  </a:rPr>
                  <a:t>45 *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Straight Connector 15"/>
              <p:cNvSpPr/>
              <p:nvPr/>
            </p:nvSpPr>
            <p:spPr>
              <a:xfrm flipV="1">
                <a:off x="2133720" y="2209680"/>
                <a:ext cx="2438280" cy="8380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TextBox 16"/>
              <p:cNvSpPr/>
              <p:nvPr/>
            </p:nvSpPr>
            <p:spPr>
              <a:xfrm>
                <a:off x="4571640" y="1981440"/>
                <a:ext cx="221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entury Gothic"/>
                  </a:rPr>
                  <a:t>C + I + G + (X-IM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0" name="Straight Connector 24"/>
            <p:cNvSpPr/>
            <p:nvPr/>
          </p:nvSpPr>
          <p:spPr>
            <a:xfrm flipH="1">
              <a:off x="3351240" y="2668680"/>
              <a:ext cx="1440" cy="1295280"/>
            </a:xfrm>
            <a:prstGeom prst="line">
              <a:avLst/>
            </a:prstGeom>
            <a:ln w="9360">
              <a:solidFill>
                <a:srgbClr val="ff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TextBox 25"/>
            <p:cNvSpPr/>
            <p:nvPr/>
          </p:nvSpPr>
          <p:spPr>
            <a:xfrm>
              <a:off x="3047400" y="396288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entury Gothic"/>
                </a:rPr>
                <a:t>EGD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2" name="Straight Connector 28"/>
          <p:cNvSpPr/>
          <p:nvPr/>
        </p:nvSpPr>
        <p:spPr>
          <a:xfrm flipV="1">
            <a:off x="2743200" y="2798640"/>
            <a:ext cx="636480" cy="20880"/>
          </a:xfrm>
          <a:prstGeom prst="line">
            <a:avLst/>
          </a:prstGeom>
          <a:ln w="50760">
            <a:solidFill>
              <a:srgbClr val="3ef8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43" name="Straight Arrow Connector 36"/>
          <p:cNvCxnSpPr/>
          <p:nvPr/>
        </p:nvCxnSpPr>
        <p:spPr>
          <a:xfrm flipH="1" flipV="1">
            <a:off x="3504960" y="2818800"/>
            <a:ext cx="2210400" cy="68652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344" name="TextBox 37"/>
          <p:cNvSpPr/>
          <p:nvPr/>
        </p:nvSpPr>
        <p:spPr>
          <a:xfrm>
            <a:off x="5791320" y="33526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Inflationary G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TextBox 38"/>
          <p:cNvSpPr/>
          <p:nvPr/>
        </p:nvSpPr>
        <p:spPr>
          <a:xfrm>
            <a:off x="4800600" y="4343400"/>
            <a:ext cx="4343400" cy="16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entury Gothic"/>
              </a:rPr>
              <a:t>How to Fix it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Increase price lev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Increase tax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Reduce government spen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11600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 txBox="1"/>
          <p:nvPr/>
        </p:nvSpPr>
        <p:spPr>
          <a:xfrm>
            <a:off x="457200" y="4419360"/>
            <a:ext cx="3733920" cy="203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entury Gothic"/>
              </a:rPr>
              <a:t>EGDP &lt; PGDP</a:t>
            </a:r>
            <a:endParaRPr b="0" lang="en-US" sz="23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49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pending too low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49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Price levels to high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entury Gothic"/>
              </a:rPr>
              <a:t>Result</a:t>
            </a:r>
            <a:endParaRPr b="0" lang="en-US" sz="23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49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Recessionary gap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49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Unemployment rise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348" name="Group 3"/>
          <p:cNvGrpSpPr/>
          <p:nvPr/>
        </p:nvGrpSpPr>
        <p:grpSpPr>
          <a:xfrm>
            <a:off x="2209680" y="1371240"/>
            <a:ext cx="4726080" cy="3036240"/>
            <a:chOff x="2209680" y="1371240"/>
            <a:chExt cx="4726080" cy="3036240"/>
          </a:xfrm>
        </p:grpSpPr>
        <p:grpSp>
          <p:nvGrpSpPr>
            <p:cNvPr id="349" name="Group 19"/>
            <p:cNvGrpSpPr/>
            <p:nvPr/>
          </p:nvGrpSpPr>
          <p:grpSpPr>
            <a:xfrm>
              <a:off x="2209680" y="1371240"/>
              <a:ext cx="4726080" cy="2690640"/>
              <a:chOff x="2209680" y="1371240"/>
              <a:chExt cx="4726080" cy="2690640"/>
            </a:xfrm>
          </p:grpSpPr>
          <p:grpSp>
            <p:nvGrpSpPr>
              <p:cNvPr id="350" name="Group 10"/>
              <p:cNvGrpSpPr/>
              <p:nvPr/>
            </p:nvGrpSpPr>
            <p:grpSpPr>
              <a:xfrm>
                <a:off x="2209680" y="1545840"/>
                <a:ext cx="2668320" cy="2516040"/>
                <a:chOff x="2209680" y="1545840"/>
                <a:chExt cx="2668320" cy="2516040"/>
              </a:xfrm>
            </p:grpSpPr>
            <p:sp>
              <p:nvSpPr>
                <p:cNvPr id="351" name="Straight Connector 5"/>
                <p:cNvSpPr/>
                <p:nvPr/>
              </p:nvSpPr>
              <p:spPr>
                <a:xfrm flipH="1">
                  <a:off x="2209680" y="1545840"/>
                  <a:ext cx="1440" cy="2514600"/>
                </a:xfrm>
                <a:prstGeom prst="line">
                  <a:avLst/>
                </a:prstGeom>
                <a:ln w="25560">
                  <a:solidFill>
                    <a:srgbClr val="ff248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2" name="Straight Connector 13"/>
                <p:cNvSpPr/>
                <p:nvPr/>
              </p:nvSpPr>
              <p:spPr>
                <a:xfrm>
                  <a:off x="2211120" y="4060440"/>
                  <a:ext cx="2666880" cy="1440"/>
                </a:xfrm>
                <a:prstGeom prst="line">
                  <a:avLst/>
                </a:prstGeom>
                <a:ln w="25560">
                  <a:solidFill>
                    <a:srgbClr val="ff248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3" name="Straight Connector 8"/>
              <p:cNvSpPr/>
              <p:nvPr/>
            </p:nvSpPr>
            <p:spPr>
              <a:xfrm flipV="1">
                <a:off x="2210400" y="1371240"/>
                <a:ext cx="2514600" cy="2689560"/>
              </a:xfrm>
              <a:prstGeom prst="line">
                <a:avLst/>
              </a:prstGeom>
              <a:ln w="9360">
                <a:solidFill>
                  <a:srgbClr val="ff24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TextBox 9"/>
              <p:cNvSpPr/>
              <p:nvPr/>
            </p:nvSpPr>
            <p:spPr>
              <a:xfrm>
                <a:off x="4420800" y="1468800"/>
                <a:ext cx="68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entury Gothic"/>
                  </a:rPr>
                  <a:t>45 *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Straight Connector 10"/>
              <p:cNvSpPr/>
              <p:nvPr/>
            </p:nvSpPr>
            <p:spPr>
              <a:xfrm flipV="1">
                <a:off x="2287440" y="2308320"/>
                <a:ext cx="2438280" cy="8380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TextBox 11"/>
              <p:cNvSpPr/>
              <p:nvPr/>
            </p:nvSpPr>
            <p:spPr>
              <a:xfrm>
                <a:off x="4725720" y="2078640"/>
                <a:ext cx="221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entury Gothic"/>
                  </a:rPr>
                  <a:t>C + I + G + (X-IM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7" name="Straight Connector 5"/>
            <p:cNvSpPr/>
            <p:nvPr/>
          </p:nvSpPr>
          <p:spPr>
            <a:xfrm flipH="1">
              <a:off x="3504960" y="2765520"/>
              <a:ext cx="1440" cy="1295280"/>
            </a:xfrm>
            <a:prstGeom prst="line">
              <a:avLst/>
            </a:prstGeom>
            <a:ln w="9360">
              <a:solidFill>
                <a:srgbClr val="ff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TextBox 6"/>
            <p:cNvSpPr/>
            <p:nvPr/>
          </p:nvSpPr>
          <p:spPr>
            <a:xfrm>
              <a:off x="2895480" y="403920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entury Gothic"/>
                </a:rPr>
                <a:t>EGD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9" name="Straight Connector 14"/>
          <p:cNvSpPr/>
          <p:nvPr/>
        </p:nvSpPr>
        <p:spPr>
          <a:xfrm flipH="1">
            <a:off x="4191120" y="1600200"/>
            <a:ext cx="1440" cy="2438280"/>
          </a:xfrm>
          <a:prstGeom prst="line">
            <a:avLst/>
          </a:prstGeom>
          <a:ln w="9360">
            <a:solidFill>
              <a:srgbClr val="28dc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TextBox 15"/>
          <p:cNvSpPr/>
          <p:nvPr/>
        </p:nvSpPr>
        <p:spPr>
          <a:xfrm>
            <a:off x="3886200" y="40384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PGD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Straight Connector 16"/>
          <p:cNvSpPr/>
          <p:nvPr/>
        </p:nvSpPr>
        <p:spPr>
          <a:xfrm flipV="1">
            <a:off x="3505320" y="2742840"/>
            <a:ext cx="685800" cy="20520"/>
          </a:xfrm>
          <a:prstGeom prst="line">
            <a:avLst/>
          </a:prstGeom>
          <a:ln w="50760">
            <a:solidFill>
              <a:srgbClr val="3ef8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2" name="Straight Arrow Connector 17"/>
          <p:cNvCxnSpPr/>
          <p:nvPr/>
        </p:nvCxnSpPr>
        <p:spPr>
          <a:xfrm flipH="1" flipV="1">
            <a:off x="4343040" y="2818800"/>
            <a:ext cx="2210400" cy="68652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363" name="TextBox 18"/>
          <p:cNvSpPr/>
          <p:nvPr/>
        </p:nvSpPr>
        <p:spPr>
          <a:xfrm>
            <a:off x="6477120" y="33526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Recessionary G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Content Placeholder 2"/>
          <p:cNvSpPr/>
          <p:nvPr/>
        </p:nvSpPr>
        <p:spPr>
          <a:xfrm>
            <a:off x="4572000" y="4419720"/>
            <a:ext cx="38098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>
              <a:lnSpc>
                <a:spcPct val="90000"/>
              </a:lnSpc>
              <a:spcBef>
                <a:spcPts val="5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entury Gothic"/>
              </a:rPr>
              <a:t>How to fix it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905040" indent="-382680">
              <a:lnSpc>
                <a:spcPct val="90000"/>
              </a:lnSpc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ut tax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05040" indent="-382680">
              <a:lnSpc>
                <a:spcPct val="90000"/>
              </a:lnSpc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Lower price lev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05040" indent="-382680">
              <a:lnSpc>
                <a:spcPct val="90000"/>
              </a:lnSpc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Increase government spen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448840" cy="140796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…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y also recess abroa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We have less money to spend on import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Decreases exports for foreign countrie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Exports decrease, AD decreases, GDP decreases… RECESSION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8:13:20Z</dcterms:created>
  <dc:creator>sth_user</dc:creator>
  <dc:description/>
  <dc:language>en-US</dc:language>
  <cp:lastModifiedBy>HP Authorized Customer</cp:lastModifiedBy>
  <dcterms:modified xsi:type="dcterms:W3CDTF">2009-01-27T22:26:45Z</dcterms:modified>
  <cp:revision>8</cp:revision>
  <dc:subject/>
  <dc:title>Slide 1</dc:title>
</cp:coreProperties>
</file>